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EB5-BE15-48E4-A394-9FCA5A2C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2C3-510F-4BA8-9BFD-9B5BA4C5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72A-5505-45CB-A6F9-4F7E35E5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BA1-9069-4F18-8EA8-661E8A80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187DF-BF60-4C1B-BAE9-597936D6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0FD84-B21D-424D-9E28-08172268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B73B5-98D6-4921-8F75-ED32294F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D7466-122C-4E0E-A7BD-3FE39020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68AE0-B9BC-451E-BAE7-5DBC06F3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9DB0C-507E-41B5-8208-5E251938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CB083-4C02-4E9E-B3C0-D4F79FFD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7BB-EBA8-413F-BCC8-5548F3D9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D579B-C572-418A-93E9-21B4A580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6F544-FE6B-4178-ACF2-354F3899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B6AD4-E9EE-45AB-8A59-B2EFAEA3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6569B-D6F3-4F41-A0EC-0F5A3396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DECA7-ED1F-4E7E-B584-8DDEF09B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33B-84A1-43AB-AFA0-741D6216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D08-AC4D-4C6F-A806-B37B128E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53C-14C1-4185-A860-5DB66E1C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C2C-34FD-46F5-84E1-F95B8DC8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204-B82D-4EE3-A361-6038F188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2ED-7C61-4E93-A2D2-39F95D6F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D2C-B8C5-4D26-9414-D4D40A83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F3BD-3A67-4BD7-98CB-5E7C6FB0C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327C-2603-494A-83C2-7F072A310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Goudy Stout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By kaylie,</a:t>
            </a:r>
            <a:r>
              <a:rPr b="0" lang="en-US" sz="3200" spc="-1" strike="noStrike">
                <a:solidFill>
                  <a:srgbClr val="00cc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amber&amp; </a:t>
            </a:r>
            <a:r>
              <a:rPr b="0" lang="en-US" sz="3200" spc="-1" strike="noStrike">
                <a:solidFill>
                  <a:srgbClr val="00cc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jordan</a:t>
            </a:r>
            <a:r>
              <a:rPr b="0" lang="en-US" sz="3200" spc="-1" strike="noStrike">
                <a:solidFill>
                  <a:srgbClr val="00cc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Goudy Stout"/>
              </a:rPr>
              <a:t>gross p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An example is before tax and expenses. also means 12 dozen</a:t>
            </a:r>
            <a:r>
              <a:rPr b="0" lang="en-US" sz="3200" spc="-1" strike="noStrike">
                <a:solidFill>
                  <a:srgbClr val="00cc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&lt;3}=144}7</a:t>
            </a:r>
            <a:r>
              <a:rPr b="0" lang="en-US" sz="3200" spc="-1" strike="noStrike">
                <a:solidFill>
                  <a:srgbClr val="00cc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&lt;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Goudy Stout"/>
              </a:rPr>
              <a:t>estiim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Finding a value that is close enough to the right answer,usally with some thought or calculation invo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Goudy Stout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Terms whose variables(and their exponents such as the2 in x2)are the sa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Bodoni MT Black"/>
              </a:rPr>
              <a:t>                      </a:t>
            </a:r>
            <a:r>
              <a:rPr b="0" lang="en-US" sz="4400" spc="-1" strike="noStrike">
                <a:solidFill>
                  <a:srgbClr val="00ccff"/>
                </a:solidFill>
                <a:latin typeface="Bodoni MT Black"/>
              </a:rPr>
              <a:t>eqival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Having 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same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ccff"/>
                </a:solidFill>
                <a:latin typeface="Gigi"/>
              </a:rPr>
              <a:t>vari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Gig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Gigi"/>
              </a:rPr>
              <a:t>a symbol for a number we don’t know yet. it is</a:t>
            </a: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 </a:t>
            </a:r>
            <a:r>
              <a:rPr b="0" lang="en-US" sz="3200" spc="-1" strike="noStrike">
                <a:solidFill>
                  <a:srgbClr val="00ccff"/>
                </a:solidFill>
                <a:latin typeface="Gigi"/>
              </a:rPr>
              <a:t>usally a letter like x o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Ravie"/>
              </a:rPr>
              <a:t>Vertic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Ravie"/>
              </a:rPr>
              <a:t>In an up-down position. Upr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Ravie"/>
              </a:rPr>
              <a:t>Decim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Ravie"/>
              </a:rPr>
              <a:t>Every digit in decimal number has a “position”, and the decimal helps us to know which position is whi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Ravie"/>
              </a:rPr>
              <a:t>Horizont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Ravie"/>
              </a:rPr>
              <a:t>Going side-to-side, like the horiz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50:46Z</dcterms:created>
  <dc:creator>kaylie.caswell</dc:creator>
  <dc:description/>
  <dc:language>en-US</dc:language>
  <cp:lastModifiedBy>kaylie.caswell</cp:lastModifiedBy>
  <dcterms:modified xsi:type="dcterms:W3CDTF">2010-11-23T19:40:11Z</dcterms:modified>
  <cp:revision>2</cp:revision>
  <dc:subject/>
  <dc:title>VOCABULARY</dc:title>
</cp:coreProperties>
</file>